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0128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23040" y="299556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98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0128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23040" y="6873840"/>
            <a:ext cx="278208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86407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79880" y="510480"/>
            <a:ext cx="8640720" cy="9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74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07520" y="687384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9880" y="510480"/>
            <a:ext cx="8640720" cy="21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988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7520" y="2995560"/>
            <a:ext cx="42163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9880" y="6873840"/>
            <a:ext cx="8640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838080"/>
            <a:ext cx="2362320" cy="10412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80880" y="1523880"/>
            <a:ext cx="2376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PETROBR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-844560" y="44265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3920" y="1066680"/>
            <a:ext cx="2361960" cy="1005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33920" y="27432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657600" y="2209680"/>
            <a:ext cx="237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PETROBR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2507760" y="44265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781680" y="685800"/>
            <a:ext cx="2286000" cy="1043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7620120" y="91440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6705720" y="1447920"/>
            <a:ext cx="237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2f8b4e"/>
                </a:solidFill>
                <a:latin typeface="Arial Black"/>
              </a:rPr>
              <a:t>PETROBR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5631840" y="4426560"/>
            <a:ext cx="45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oração &amp; Produção - E&amp;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781680" y="19051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80880" y="1981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57520" y="5824440"/>
            <a:ext cx="23767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7924680"/>
            <a:ext cx="2376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– 38/ P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ENDIMENTO À CONDICIONANTE 2.1 DA RLO Nº 180/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3520" y="10288440"/>
            <a:ext cx="23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nho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52840" y="10288440"/>
            <a:ext cx="23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nho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4720" y="10288440"/>
            <a:ext cx="237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nho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7924680"/>
            <a:ext cx="2376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– 38/ P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ENDIMENTO À CONDICIONANTE 2.1 DA RLO Nº 180/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7924680"/>
            <a:ext cx="190512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– 38/ P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ENDIMENTO À CONDICIONANTE 2.1 DA RLO Nº 180/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nrae</cp:lastModifiedBy>
  <cp:lastPrinted>2001-10-17T20:12:51Z</cp:lastPrinted>
  <dcterms:modified xsi:type="dcterms:W3CDTF">2003-06-30T12:17:07Z</dcterms:modified>
  <cp:revision>47</cp:revision>
  <dc:subject/>
  <dc:title>Slide sem título </dc:title>
</cp:coreProperties>
</file>